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7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6BC-1C7D-4B3A-8A3D-4B732066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564C-2C20-4F6E-BF52-6F618ED1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F4CE-D715-4E06-83C8-3001A787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FBE-956E-42E8-8655-B4F049D5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390A-6E8D-4323-A35A-DA7352C9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F77D-FFDF-4E8A-A8E9-F372BB22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8160-8352-4D8A-B276-A7BBEEE0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8C52-41E6-4777-A708-D24F7F130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E6A-C6B1-4DA9-8A07-6E6012AA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B1C9-185B-468E-8448-7347B700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2B7-9FBF-482C-BB78-5B81461A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C58-F3D1-4882-8AB4-AD2CFD16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105-E76E-484D-A51C-8C355881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26D-1E67-4330-8C7C-8F0D3F39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8D0-E753-45F7-9649-DC9F165C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8A24-58CF-4B45-898F-C6ABE7D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5ED0-E197-4EE6-844D-2C32E98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3BA5-51C5-4476-AA27-FFC72C1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3E64-FCE4-41EF-B2F6-2CC96DC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F758-7868-4792-982E-21D0C71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ECE7-ED68-4B05-8CCB-BA08B25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97A-0DAF-419E-9452-41B0B3E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B2A-A992-4BD3-ACD4-ABB72BF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4D7A-A0DB-4FD4-AA38-80717F0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ABA-B3D9-40F1-B58D-1E5F4EF7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C82-9DEC-4AAD-819B-E448CD04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3BD-FFDA-4103-B723-BB657D20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034-8966-4F78-8FF3-E9D0948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20E-5344-47B4-A1DF-7A6585CF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4F6-549D-44D2-904B-3FB20BB2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075-3A9B-4156-A5DC-23936552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AF5-B9F1-4B13-A343-8521C03C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1ED-5416-4674-969D-96B5600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A24-6456-4CC8-8A56-91E4916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A2F-68AA-4C30-9ABB-8F0442C7B3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78FC-C027-4032-9D01-5753ADA8EC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С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НА МЕДИЦИНА СА НЕГОМ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r>
              <a:rPr b="1" lang="sl-SI" sz="2800" spc="-1" strike="noStrike">
                <a:solidFill>
                  <a:srgbClr val="7030a0"/>
                </a:solidFill>
                <a:latin typeface="Arial"/>
              </a:rPr>
              <a:t>БОЛЕСТИ ХИПОФИЗЕ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ТРУМА, ТИРЕОИДИТИС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, ТУМОРИ ШТИТАСТЕ ЖЛЕЗДЕ.</a:t>
            </a:r>
            <a:br>
              <a:rPr sz="2800"/>
            </a:b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БОЛЕСТ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04480" y="1337760"/>
            <a:ext cx="893916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Hypopitaitar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3840" y="1600200"/>
            <a:ext cx="87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ција хормона хипофи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зрок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hypopituitarism</a:t>
            </a:r>
            <a:r>
              <a:rPr b="1" i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-а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 склопу других болест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2880" y="1600200"/>
            <a:ext cx="841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аркт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 И ЗН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Симптоми и знаци се могу појавити изненада, обично се постепено развијаjу, варирају у зависности који од хормона недостаје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нек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ја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. 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 ИД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централни) 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периферни) тип: неосетљивост бубрежних каналића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ски, тумори, инфекције, траума, зрачење, инфламац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887040"/>
            <a:ext cx="914400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: психогена полидип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жеђа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ЦТ и НМР селар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змопреси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DDV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-4 мцг дне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ер 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нефрог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ти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ТУМОР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3440" y="1447920"/>
            <a:ext cx="898056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 у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виру генетских 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а, острвца панкреа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thyreosis se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Hyperprolactinemia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000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:м - 20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Хиперпрола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тинем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j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↑ПР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lometol, ranitidin, neurolept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15мг/дан (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stinex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и систем који одрж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ном унутрашњу средину упркос потенцијалним поремећа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Violeta\Desktop\Endocrine-Glands-Diagram.jpg"/>
          <p:cNvPicPr/>
          <p:nvPr/>
        </p:nvPicPr>
        <p:blipFill>
          <a:blip r:embed="rId1"/>
          <a:stretch/>
        </p:blipFill>
        <p:spPr>
          <a:xfrm>
            <a:off x="1055520" y="2567160"/>
            <a:ext cx="6780240" cy="38764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191960"/>
            <a:ext cx="8948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ређе 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к 70% од свих случајева хиперкортицизм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-15% свих тумора хипофиз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41040"/>
            <a:ext cx="91440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и те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дозажн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X 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дозаж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I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F:\slike predavanja\01.jpg"/>
          <p:cNvPicPr/>
          <p:nvPr/>
        </p:nvPicPr>
        <p:blipFill>
          <a:blip r:embed="rId1"/>
          <a:stretch/>
        </p:blipFill>
        <p:spPr>
          <a:xfrm>
            <a:off x="609480" y="457200"/>
            <a:ext cx="3810240" cy="35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:\slike predavanja\02.jpg"/>
          <p:cNvPicPr/>
          <p:nvPr/>
        </p:nvPicPr>
        <p:blipFill>
          <a:blip r:embed="rId2"/>
          <a:stretch/>
        </p:blipFill>
        <p:spPr>
          <a:xfrm>
            <a:off x="4419720" y="3479760"/>
            <a:ext cx="40478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ypotumoren_cushing1"/>
          <p:cNvPicPr/>
          <p:nvPr/>
        </p:nvPicPr>
        <p:blipFill>
          <a:blip r:embed="rId1"/>
          <a:stretch/>
        </p:blipFill>
        <p:spPr>
          <a:xfrm>
            <a:off x="347760" y="447840"/>
            <a:ext cx="2971800" cy="492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ypotumoren_cushing2"/>
          <p:cNvPicPr/>
          <p:nvPr/>
        </p:nvPicPr>
        <p:blipFill>
          <a:blip r:embed="rId2"/>
          <a:stretch/>
        </p:blipFill>
        <p:spPr>
          <a:xfrm>
            <a:off x="3247920" y="755640"/>
            <a:ext cx="2716200" cy="421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ypotumoren_cushing3"/>
          <p:cNvPicPr/>
          <p:nvPr/>
        </p:nvPicPr>
        <p:blipFill>
          <a:blip r:embed="rId3"/>
          <a:stretch/>
        </p:blipFill>
        <p:spPr>
          <a:xfrm>
            <a:off x="5978520" y="1409760"/>
            <a:ext cx="253044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160" y="1044720"/>
            <a:ext cx="8907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ал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/10000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ановника, инциденција 3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1000000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&lt;1%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on-pituitary tumou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акромегалија је узрокована туморима панкреаса, плућа и надбубрежних жлезда, који доводе до виш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0680" y="1044720"/>
            <a:ext cx="8623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у осетљиве и после пубертета, тако да настављају да расту и доводе до настанка специфичног хабиту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и симптоми се споро развиј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жем пери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 година трајања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7840" y="1044720"/>
            <a:ext cx="88758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сна и груба кожа лиц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жени набори изнад очију (фронтални синуси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урена доња 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и интердентални прос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убок гл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тропатиј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акралних делова тела (нос, уши, стопала, шак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8200" y="1387080"/>
            <a:ext cx="8591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ремисија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КИ код коморбидитета, ниво хормона се најчешће не врати у норм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уитаризам 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г нерва, ризик од сек. малиг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друга линиј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s12c151photo01"/>
          <p:cNvPicPr/>
          <p:nvPr/>
        </p:nvPicPr>
        <p:blipFill>
          <a:blip r:embed="rId1"/>
          <a:stretch/>
        </p:blipFill>
        <p:spPr>
          <a:xfrm>
            <a:off x="250920" y="765000"/>
            <a:ext cx="4032000" cy="2311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s12c151photo02"/>
          <p:cNvPicPr/>
          <p:nvPr/>
        </p:nvPicPr>
        <p:blipFill>
          <a:blip r:embed="rId2"/>
          <a:stretch/>
        </p:blipFill>
        <p:spPr>
          <a:xfrm>
            <a:off x="4932360" y="878040"/>
            <a:ext cx="341964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acromeg1"/>
          <p:cNvPicPr/>
          <p:nvPr/>
        </p:nvPicPr>
        <p:blipFill>
          <a:blip r:embed="rId3"/>
          <a:stretch/>
        </p:blipFill>
        <p:spPr>
          <a:xfrm>
            <a:off x="949320" y="4084560"/>
            <a:ext cx="3052800" cy="1886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acromeg2"/>
          <p:cNvPicPr/>
          <p:nvPr/>
        </p:nvPicPr>
        <p:blipFill>
          <a:blip r:embed="rId4"/>
          <a:stretch/>
        </p:blipFill>
        <p:spPr>
          <a:xfrm>
            <a:off x="5154480" y="3927600"/>
            <a:ext cx="30258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Тироидна жлез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F:\slike predavanja\1.png"/>
          <p:cNvPicPr/>
          <p:nvPr/>
        </p:nvPicPr>
        <p:blipFill>
          <a:blip r:embed="rId1"/>
          <a:stretch/>
        </p:blipFill>
        <p:spPr>
          <a:xfrm>
            <a:off x="6858000" y="457200"/>
            <a:ext cx="216864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фун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ТР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D:\Documents and Settings\Users\Violeta Mladenovic\Desktop\STRUMA\imagesDVGDMBPZ.jpg"/>
          <p:cNvPicPr/>
          <p:nvPr/>
        </p:nvPicPr>
        <p:blipFill>
          <a:blip r:embed="rId2"/>
          <a:stretch/>
        </p:blipFill>
        <p:spPr>
          <a:xfrm>
            <a:off x="7315200" y="4648320"/>
            <a:ext cx="1371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и поремећаји у синтези тироидних хормона (транспорт јода, синтеза ТГ, органификација Ј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озиција струмогенима (нпр. тиоцијанати из поврћа - куп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D:\Documents and Settings\Users\Violeta Mladenovic\Desktop\STRUMA\imagesLGCOK62Z.jpg"/>
          <p:cNvPicPr/>
          <p:nvPr/>
        </p:nvPicPr>
        <p:blipFill>
          <a:blip r:embed="rId1"/>
          <a:stretch/>
        </p:blipFill>
        <p:spPr>
          <a:xfrm>
            <a:off x="5943600" y="518796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NODOSA (uninodosa, pol</a:t>
            </a:r>
            <a:r>
              <a:rPr b="1" i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nodo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а расте са годинама стар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D:\Documents and Settings\Users\Violeta Mladenovic\Desktop\STRUMA\imagesRBOKJWUB.jpg"/>
          <p:cNvPicPr/>
          <p:nvPr/>
        </p:nvPicPr>
        <p:blipFill>
          <a:blip r:embed="rId1"/>
          <a:stretch/>
        </p:blipFill>
        <p:spPr>
          <a:xfrm>
            <a:off x="5943600" y="4419720"/>
            <a:ext cx="2590920" cy="185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Documents and Settings\Users\Violeta Mladenovic\Desktop\STRUMA\imagesWPBCTOVS.jpg"/>
          <p:cNvPicPr/>
          <p:nvPr/>
        </p:nvPicPr>
        <p:blipFill>
          <a:blip r:embed="rId2"/>
          <a:stretch/>
        </p:blipFill>
        <p:spPr>
          <a:xfrm>
            <a:off x="380880" y="4191120"/>
            <a:ext cx="1819440" cy="2504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:\Documents and Settings\Users\Violeta Mladenovic\Desktop\STRUMA\STR.png"/>
          <p:cNvPicPr/>
          <p:nvPr/>
        </p:nvPicPr>
        <p:blipFill>
          <a:blip r:embed="rId3"/>
          <a:stretch/>
        </p:blipFill>
        <p:spPr>
          <a:xfrm>
            <a:off x="2743200" y="441972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ИДИТИС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тни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е, гљивице, радијација након примене Ј131, лекови (амиодар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хтева примену антибиотика и хируршк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Documents and Settings\Users\Violeta Mladenovic\Desktop\STRUMA\images7JRGBXZK.jpg"/>
          <p:cNvPicPr/>
          <p:nvPr/>
        </p:nvPicPr>
        <p:blipFill>
          <a:blip r:embed="rId1"/>
          <a:stretch/>
        </p:blipFill>
        <p:spPr>
          <a:xfrm>
            <a:off x="7086600" y="4800600"/>
            <a:ext cx="1752480" cy="18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Violeta\Desktop\imagesC4IMR09B.jpg"/>
          <p:cNvPicPr/>
          <p:nvPr/>
        </p:nvPicPr>
        <p:blipFill>
          <a:blip r:embed="rId2"/>
          <a:stretch/>
        </p:blipFill>
        <p:spPr>
          <a:xfrm>
            <a:off x="380880" y="46483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cuments and Settings\Users\Violeta Mladenovic\Desktop\STRUMA\imagesCVTOOJZT.jpg"/>
          <p:cNvPicPr/>
          <p:nvPr/>
        </p:nvPicPr>
        <p:blipFill>
          <a:blip r:embed="rId3"/>
          <a:stretch/>
        </p:blipFill>
        <p:spPr>
          <a:xfrm>
            <a:off x="3687840" y="4670280"/>
            <a:ext cx="246852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de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ervain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 фаза опоравка уз развој транзиторне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грирајући бол у врату, повишена температур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зитиван биохуморални синдром запаљења (СЕ, ЦРП, фибриноген, леукоцитоз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ировање, одмор, НСАИЛ, понекад Г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 Гравес, обично праћен хипер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зитивна  ТПО 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 дијететски реж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 се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ен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(анапластич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-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ог нее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ног поре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лико је чест рак штитасте жлез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цином штитасте жлезде је најчешћи карцином ендокри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и представља око 2% свих карцинома 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уд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ој оболелих је у сталном порасту широм света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ње три децен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наредних пет година у Срб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ће од тироидног карцинома оболети око 1.200 стано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вишеструко чешће оболевају него мушкарци, 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је утврђено из ког раз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Марковић, Рак  штитасте жлезде:Дијагностика и лечење. Београд,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ОДРЕЂИВАЊЕ НИВОА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И СТА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D:\Documents and Settings\Users\Violeta Mladenovic\Desktop\slike DM\SLIKE MEDICINA\fig30.jpg"/>
          <p:cNvPicPr/>
          <p:nvPr/>
        </p:nvPicPr>
        <p:blipFill>
          <a:blip r:embed="rId1"/>
          <a:stretch/>
        </p:blipFill>
        <p:spPr>
          <a:xfrm>
            <a:off x="4919760" y="3983040"/>
            <a:ext cx="42242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Рак штитасте жлезде може дати различите знакове или симптом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слина у врату која понекад расте брз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ицање у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ипљиви чворићи на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 у предњем делу врата, који се понекад 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о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 или промене у гласу које не прол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ежано гу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и са дис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лани кашаљ који није узрокован прехла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у штитастој жлезди који се види на тест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имањ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ниједан од ових знакова и симптома није присутан када је болест у почетном стадиј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06720"/>
            <a:ext cx="8893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СТОВИ ТИРОИД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814400"/>
            <a:ext cx="8280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3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праћено њиховом повећаном активношћу у периферним ткивима, при чему секреција тироидних хормона више није под регулаторном контролом хипоталамо-хипофизног систе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,5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пул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7030a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ИРЕО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О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СИК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D:\Documents and Settings\Users\Violeta Mladenovic\Desktop\STRUMA\images31EIRMSN.jpg"/>
          <p:cNvPicPr/>
          <p:nvPr/>
        </p:nvPicPr>
        <p:blipFill>
          <a:blip r:embed="rId1"/>
          <a:stretch/>
        </p:blipFill>
        <p:spPr>
          <a:xfrm>
            <a:off x="6400800" y="4952880"/>
            <a:ext cx="250524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:\Documents and Settings\Users\Violeta Mladenovic\Desktop\STRUMA\imagesBF074QCQ.jpg"/>
          <p:cNvPicPr/>
          <p:nvPr/>
        </p:nvPicPr>
        <p:blipFill>
          <a:blip r:embed="rId2"/>
          <a:stretch/>
        </p:blipFill>
        <p:spPr>
          <a:xfrm>
            <a:off x="4267080" y="4952880"/>
            <a:ext cx="19814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ВС и 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БАЗАЛНИ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50920"/>
            <a:ext cx="9144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на током времена, већ постоје одређење правилнос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о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улсатилност у секрецији (инсулин, 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чно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крe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a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ГИ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ендокрини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елет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722240"/>
            <a:ext cx="8610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озност кортикалне 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Л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остеоб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сорпција и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и 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бљање нок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урогенитални систем</a:t>
            </a:r>
            <a:br>
              <a:rPr sz="32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њ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93480"/>
            <a:ext cx="40384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 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149560"/>
            <a:ext cx="40384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99694"/>
                </a:solidFill>
                <a:latin typeface="Calibri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Не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asthenia gravi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 склоп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в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излагање Сун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егавање боравка у топлим, влажним простор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СУ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 у случају развоја изненадне фебрилности и гушобоље одмах проверити КК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иреотоксична криза</a:t>
            </a:r>
            <a:r>
              <a:rPr b="1" lang="sl-SI" sz="2800" spc="-1" strike="noStrike">
                <a:solidFill>
                  <a:srgbClr val="7030a0"/>
                </a:solidFill>
                <a:latin typeface="Arial"/>
                <a:ea typeface="Arial"/>
              </a:rPr>
              <a:t> (“тиреотоксична олуја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ажава до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но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 појаве бета блок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 Актуелно, морталитет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5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-преципитишућ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676520"/>
            <a:ext cx="8839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НАМСКИ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7840" y="1600200"/>
            <a:ext cx="841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 - клиничка през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219320"/>
            <a:ext cx="89154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7030a0"/>
                </a:solidFill>
                <a:latin typeface="Arial"/>
                <a:ea typeface="Arial"/>
              </a:rPr>
              <a:t>ЦНС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нем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моционал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сих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ат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па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КАРДИОВАСКУЛАРНЕ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, Повећана раздражљивост (АВ блок 1, степ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0" y="2224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80880" y="1371600"/>
            <a:ext cx="838224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/6-8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  или  20 g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ТИРЕОИДИЗ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ЕТИОЛОШКА ПО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, пол: женски, гојазност, Операција тироидее, Зрачење врат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на симптоматологија (несанаица, појачана раздражљивост, хиперактив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 СИСТ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ИШИЋ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ИТ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ш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Violeta\Desktop\images.jpg"/>
          <p:cNvPicPr/>
          <p:nvPr/>
        </p:nvPicPr>
        <p:blipFill>
          <a:blip r:embed="rId1"/>
          <a:stretch/>
        </p:blipFill>
        <p:spPr>
          <a:xfrm>
            <a:off x="1981080" y="0"/>
            <a:ext cx="4524480" cy="3413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Violeta\Desktop\Hypothyroidism.jpg"/>
          <p:cNvPicPr/>
          <p:nvPr/>
        </p:nvPicPr>
        <p:blipFill>
          <a:blip r:embed="rId2"/>
          <a:stretch/>
        </p:blipFill>
        <p:spPr>
          <a:xfrm>
            <a:off x="4267080" y="3413160"/>
            <a:ext cx="487692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Violeta\Desktop\images0LVWE7RC.jpg"/>
          <p:cNvPicPr/>
          <p:nvPr/>
        </p:nvPicPr>
        <p:blipFill>
          <a:blip r:embed="rId3"/>
          <a:stretch/>
        </p:blipFill>
        <p:spPr>
          <a:xfrm>
            <a:off x="0" y="3413160"/>
            <a:ext cx="424332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МИКСЕДЕМСКА 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3832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УРГЕНТ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1295280"/>
            <a:ext cx="86104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-250 mg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4) 500 mcg НГ или ПО, затим 5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c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91440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ituitary"/>
          <p:cNvPicPr/>
          <p:nvPr/>
        </p:nvPicPr>
        <p:blipFill>
          <a:blip r:embed="rId1"/>
          <a:stretch/>
        </p:blipFill>
        <p:spPr>
          <a:xfrm>
            <a:off x="7196040" y="3390840"/>
            <a:ext cx="13543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ЛЕК ИЗ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к се уводи постеп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ar Sandström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крио параштитасте жлез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њи велики орган који је идентификован код љ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ТХ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ретују  глав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Picture of the Parathyroid Glands"/>
          <p:cNvPicPr/>
          <p:nvPr/>
        </p:nvPicPr>
        <p:blipFill>
          <a:blip r:embed="rId1"/>
          <a:stretch/>
        </p:blipFill>
        <p:spPr>
          <a:xfrm>
            <a:off x="6753240" y="3962520"/>
            <a:ext cx="2390760" cy="266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parathyroidmolecule"/>
          <p:cNvPicPr/>
          <p:nvPr/>
        </p:nvPicPr>
        <p:blipFill>
          <a:blip r:embed="rId2"/>
          <a:stretch/>
        </p:blipFill>
        <p:spPr>
          <a:xfrm>
            <a:off x="503280" y="4486320"/>
            <a:ext cx="283356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F:\slike predavanja\5.png"/>
          <p:cNvPicPr/>
          <p:nvPr/>
        </p:nvPicPr>
        <p:blipFill>
          <a:blip r:embed="rId1"/>
          <a:stretch/>
        </p:blipFill>
        <p:spPr>
          <a:xfrm>
            <a:off x="6400800" y="3505320"/>
            <a:ext cx="26337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356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ПТЖ  (спорадично или у оквиру МЕ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сомноленц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Г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В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а активност остеок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 метаболизам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дукција густине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182880" y="1066680"/>
            <a:ext cx="9326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акашвање калциурез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б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лцитон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рмонска 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тоста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Секунд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ГФР&lt;40мл/мин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раб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ј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teitis fibrosa cyst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ерциј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стаје то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у основи 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и више не реагује на примен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уз појачање болова у костима и свраба, те појаву слабости и лаког зама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63720"/>
            <a:ext cx="91440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ују 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ва контракцију глатких мишићних ћелија у утерус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губитак воде знојење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констрикције артериола чиме узрокује пораст крвног притис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ПК и АЛ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рестезије лица у пределу усан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оничне и болне контракције (“акушерска шака”, карпопедални спазам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рч дијафрагм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-епилептични напади (очувана свест), настаје спонтано или провоцирано свакодневним активностима (ходање, рад, хипервен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see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istemanervoso.com/images/neurologia_clinica_aula2008/resumo_geral05.jpg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3543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www.nejm.org/na102/home/ACS/publisher/mms/journals/content/nejm/2009/nejm_2009.360.issue-18/nejmicm074227/production/images/large/nejmicm074227_f1.jpeg"/>
          <p:cNvPicPr/>
          <p:nvPr/>
        </p:nvPicPr>
        <p:blipFill>
          <a:blip r:embed="rId2"/>
          <a:stretch/>
        </p:blipFill>
        <p:spPr>
          <a:xfrm>
            <a:off x="228600" y="1066680"/>
            <a:ext cx="5532480" cy="281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ШЕРСКА ШАК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4" descr="http://1.bp.blogspot.com/_Ce2QgABcdRA/S_ioKs7wmsI/AAAAAAAAAJg/xvDre7lOl7s/s1600/carpopedal+spasm.jpg"/>
          <p:cNvPicPr/>
          <p:nvPr/>
        </p:nvPicPr>
        <p:blipFill>
          <a:blip r:embed="rId3"/>
          <a:stretch/>
        </p:blipFill>
        <p:spPr>
          <a:xfrm>
            <a:off x="268200" y="3809880"/>
            <a:ext cx="5370480" cy="28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http://www.websters-online-dictionary.org/images/wiki/wikipedia/commons/thumb/2/23/CBell1809.jpg/300px-CBell1809.jpg"/>
          <p:cNvPicPr/>
          <p:nvPr/>
        </p:nvPicPr>
        <p:blipFill>
          <a:blip r:embed="rId4"/>
          <a:stretch/>
        </p:blipFill>
        <p:spPr>
          <a:xfrm>
            <a:off x="6019920" y="4800600"/>
            <a:ext cx="28573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F:\slike predavanja\images0AAI6E5I.jpg"/>
          <p:cNvPicPr/>
          <p:nvPr/>
        </p:nvPicPr>
        <p:blipFill>
          <a:blip r:embed="rId1"/>
          <a:stretch/>
        </p:blipFill>
        <p:spPr>
          <a:xfrm>
            <a:off x="640080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F:\slike predavanja\imagesRQ8J3U62.jpg"/>
          <p:cNvPicPr/>
          <p:nvPr/>
        </p:nvPicPr>
        <p:blipFill>
          <a:blip r:embed="rId2"/>
          <a:stretch/>
        </p:blipFill>
        <p:spPr>
          <a:xfrm>
            <a:off x="3124080" y="4248000"/>
            <a:ext cx="30006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http://www.sistemanervoso.com/images/neurologia_clinica_aula2008/resumo_geral07.jpg"/>
          <p:cNvPicPr/>
          <p:nvPr/>
        </p:nvPicPr>
        <p:blipFill>
          <a:blip r:embed="rId1"/>
          <a:stretch/>
        </p:blipFill>
        <p:spPr>
          <a:xfrm>
            <a:off x="4829040" y="1362240"/>
            <a:ext cx="3705480" cy="2600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hvostek’s Sign in a Patient with Gitelman’s Syndrome."/>
          <p:cNvPicPr/>
          <p:nvPr/>
        </p:nvPicPr>
        <p:blipFill>
          <a:blip r:embed="rId2"/>
          <a:stretch/>
        </p:blipFill>
        <p:spPr>
          <a:xfrm>
            <a:off x="5105520" y="4154400"/>
            <a:ext cx="3429000" cy="247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http://www.etsu.edu/com/medicalmystery/pictures/Chvostek_s_sign.jpg"/>
          <p:cNvPicPr/>
          <p:nvPr/>
        </p:nvPicPr>
        <p:blipFill>
          <a:blip r:embed="rId3"/>
          <a:stretch/>
        </p:blipFill>
        <p:spPr>
          <a:xfrm>
            <a:off x="380880" y="1828800"/>
            <a:ext cx="4648320" cy="39528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0"/>
          <p:cNvSpPr/>
          <p:nvPr/>
        </p:nvSpPr>
        <p:spPr>
          <a:xfrm>
            <a:off x="3657600" y="35812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Удара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пр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ROUSSE-ОВ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http://www.nejm.org/na102/home/ACS/publisher/mms/journals/content/nejm/2000/nejm_2000.343.issue-25/nejm200012213432506/production/images/large/nejm200012213432506_f1.jpeg"/>
          <p:cNvPicPr/>
          <p:nvPr/>
        </p:nvPicPr>
        <p:blipFill>
          <a:blip r:embed="rId1"/>
          <a:stretch/>
        </p:blipFill>
        <p:spPr>
          <a:xfrm>
            <a:off x="88920" y="1523880"/>
            <a:ext cx="9055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br>
              <a:rPr sz="32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Marina</cp:lastModifiedBy>
  <cp:lastPrinted>2009-04-22T19:24:48Z</cp:lastPrinted>
  <dcterms:modified xsi:type="dcterms:W3CDTF">2020-10-01T18:50:24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